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A1E-AC0B-4ABB-B892-A673DFD8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3F4-B22D-45BC-85FB-59549B8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6C3-5511-4FF7-92BF-D48CB61A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FC1-A548-4B38-8C60-0FD049E0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95F-6810-434B-A80D-DA84633B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39C-F51D-480A-8CBE-8C92C09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19C-2ADC-4D36-BE86-EC264409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80C-28CF-406E-A08D-9593FC43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DBC-BE0E-43E0-AC92-8F99814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442-4275-4124-95BD-C658661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B59-B8A6-4BC4-AB4A-19FC574D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3BB-FC7E-42B5-8089-08FE670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1F6-DC60-4103-A2E2-7AF0B62E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OLU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61722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ph tortoises"/>
          <p:cNvPicPr/>
          <p:nvPr/>
        </p:nvPicPr>
        <p:blipFill>
          <a:blip r:embed="rId1"/>
          <a:stretch/>
        </p:blipFill>
        <p:spPr>
          <a:xfrm>
            <a:off x="2133720" y="3733920"/>
            <a:ext cx="5114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humans select and breed animals with certain useful traits from the natural variation in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4040" y="2666880"/>
            <a:ext cx="47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8720" y="3657600"/>
            <a:ext cx="857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cess by which unrelated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s independently evolv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ities when adapting to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 environ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23880" y="60199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nvergent ev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ok published by Charles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which he proposed a mechan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provided evidence for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46760" y="2438280"/>
            <a:ext cx="67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n the Origin of Species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3352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cess by which related organisms evolve differences when they are isolated in different environ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90720" y="5181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vergent ev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bones in the diagrams below are example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35800" y="175248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4" descr="homolog appendages"/>
          <p:cNvPicPr/>
          <p:nvPr/>
        </p:nvPicPr>
        <p:blipFill>
          <a:blip r:embed="rId1"/>
          <a:stretch/>
        </p:blipFill>
        <p:spPr>
          <a:xfrm>
            <a:off x="1752480" y="2666880"/>
            <a:ext cx="4038840" cy="32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208960" y="62485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1992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uralist who gave Darwin incenti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blish his ideas about evolu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ing an essay that described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47840" y="213372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14480" y="3276720"/>
            <a:ext cx="86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rench naturalist who hypothesiz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organisms acquire traits during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ir lifetime through use or disus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can be passed on to offsp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66680" y="5715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 geologists who recognized that Earth is many millions of years old and that processes that changed it still operat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0520" y="2286000"/>
            <a:ext cx="75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James Hutton &amp; Charles Lye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09480" y="33526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lish economist who reasoned that if the human population kept growing unchecked, there would be insufficient food and space for every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5800" y="6019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52578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irst theory about evolu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rganisms do change and adapt to their environ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24080" y="1789200"/>
            <a:ext cx="871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enes determine which traits are passed 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unless genes are changed the acquired trait 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show in the original organ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3 kinds of evidence that supports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68040" y="1925640"/>
            <a:ext cx="766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eographic 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mbryology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tificial sele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n see natural selection work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antibiotic resistance, new disease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59000" cy="396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3843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idea that all species, living and extinct, were derived from a common ance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251000" y="236232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60240" y="3643200"/>
            <a:ext cx="828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atural selection is the same 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26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a population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33840" y="1461960"/>
            <a:ext cx="25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18760" y="3643200"/>
            <a:ext cx="80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erences among individual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in a spec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suring lima beans and finding beans come in different sizes is an examp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7960" y="1981080"/>
            <a:ext cx="45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08120" y="3643200"/>
            <a:ext cx="83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ractice of breeding dogs 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duce offspring with specifi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aits is an example of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human’s appendix and a skink’s legs are examples of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50720" y="1905120"/>
            <a:ext cx="42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3520" y="3276720"/>
            <a:ext cx="567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plain these giraff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5257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y grew longer with u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6" descr="ph lamarck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629400" y="281952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se giraffes with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opulations naturally ha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dividuals with differ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zes of neck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(natural variatio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ones with longer neck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e better able to get food, survive, and pass on their longer neck gen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4" descr="ph lamarck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781680" y="160020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Longer necked giraffes can better compete for food and survive to reproduce, passing on their long necked gen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6" descr="ph lamarck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long-necked trait acquired by stretching can be passed onto offspring and those organisms will be better able to surviv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6" descr="ph lamarck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iagrams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ight show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natur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natural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common d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artifici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98360" y="152388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4" descr="homolog appendages"/>
          <p:cNvPicPr/>
          <p:nvPr/>
        </p:nvPicPr>
        <p:blipFill>
          <a:blip r:embed="rId1"/>
          <a:stretch/>
        </p:blipFill>
        <p:spPr>
          <a:xfrm>
            <a:off x="5715000" y="228600"/>
            <a:ext cx="3139920" cy="2548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4952160" y="-7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60199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cording to this diagram, 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have a vestigial pel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femur. What does this sug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out ancestors of modern wh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29923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ncestors of modern whales had legs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alked on l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3943440" cy="3205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4267800" y="664380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daptations in species of finches that Darwin observed on the Gal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gos Island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fferent shaped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21600" y="152388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eak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7520" y="3400560"/>
            <a:ext cx="79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y did Darwin first hesitate t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ublish his ideas about evolu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is findings challenged fundamental scientific beliefs at the 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519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uctures that develop from the same embryonic tissues, but have different mature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26520" y="213372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6960" y="3643200"/>
            <a:ext cx="81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 with little or no fun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146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stigial org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52578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ossible explanation for a set of observations or a possible answer to a scientific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the DNA sequence of 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 due to mistake is replication or damage from radiation or 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23280" y="243828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ypothe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320480" y="57261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sharks are not closely related, but have evolved to have similar body shapes and fins because they live in similar environments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79760" y="29718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verg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ll one piece of evidence that suggests human chromosome #2 evolved by joining 2 smaller ancestor chrom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7080" y="2714760"/>
            <a:ext cx="82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nding pattern match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telomeres in the middl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at the end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an extra inactive centrom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o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homologou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68120" y="1571760"/>
            <a:ext cx="85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uman arm, bird wing, whale flipp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37520" y="340056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 pseudogene you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arned abou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itamin C gene in primates,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enes for “smell” in hum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well supported, testable explanation of phenomena that have occurred in the natural world i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led 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the ship that Darwin spent 5 years on traveling around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84400" y="274320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37160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.M.S. Beag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the idea that forces have been changing the Earth and have been at work for millions of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19480" y="25909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ames Hutt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45960" y="340056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of “Inheritance o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quired Traits”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3520" y="5181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that forces which have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ing the Earth are still a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482200" y="236232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les Lye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3960" y="3400560"/>
            <a:ext cx="882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realized that human pop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re increasing and said eventuall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would not be enough food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pace for everyon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62120" y="5791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5345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dea about evolutio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mpted Darwin to publish his the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46640" y="23623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1800" y="340056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r, feathers, beaks, antlers, &amp; claw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all examples of 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105520" y="3886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lions prey on a herd of antelope, some antelope are killed and some escape. Which part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theory of evolution might be used to describe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651680" y="2286000"/>
            <a:ext cx="51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78640" y="3352680"/>
            <a:ext cx="824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aptations can be which of thes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sical     behavioral    geographi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47920" y="54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hysical or behavior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5562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LIVING THINGS CHANGE OVER TIME TO BEST FIT THEIR ENVIRONMENTS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50680" y="1981080"/>
            <a:ext cx="70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TRAITS ARE DETERMINED BY GENES; </a:t>
            </a:r>
            <a:br>
              <a:rPr sz="2800"/>
            </a:b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ACQUIRED TRAITS ARE NOT PASSED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divergent evolu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arwin called “survival of the fitte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“struggle for existance” is 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50360" y="68580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ive radi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990720" y="3276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sele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515040" y="50403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ll the places he visited, the ______________ Islands influenced Darwin’s ideas abou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tion the most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91400" y="7621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-45000" y="2971800"/>
            <a:ext cx="93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addition to observing liv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s, Darwin studied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served remains of ancient organis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lled 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05740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the Galápagos Islands, Darwin observed that the characteristics of many animals and 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. all looked a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. were completely un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. were acquired through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. varied from island to is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85520" y="3962520"/>
            <a:ext cx="70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 Varied from island to is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9220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concept of evolution was influenced by all of the follow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work of Charles Lyell and James H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his collection of specimen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his knowledge of the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his voyage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althus’s ideas about population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3520" y="4114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 Darwin didn’t know about DNA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of these statements about the structu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uman chromosome #2 provide evidenc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olu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Its banding pattern matches the pattern seen on two smaller chimp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. It has telomeres in the center, as well as at the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. It carries a functional gene for making vitam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. It has an extra non-functional centrom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2480" y="5562720"/>
            <a:ext cx="88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. Humans have a nonfunctional vitamin C making gen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nd its not on chromosome #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 summary of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45400" y="137160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Natural variation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in population provides bas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for natural selection to 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8580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verproduction of offspring forces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mpetition for resources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(struggle for surviv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17520" y="342900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rganisms best suited to their environment will surv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and reproduce; Other organisms die or leave few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ffspring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</a:rPr>
              <a:t>survival of the fittest/natural selection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651600" y="4724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pecies alive today have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omic Sans MS"/>
              </a:rPr>
              <a:t>descended with modification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   from ancestral species that lived in the distant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86520" y="563868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All organisms are united into a single “tree of life”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    (common desc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END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06440" y="4799880"/>
            <a:ext cx="68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OLUTION IS STILL HAPPE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bility of an organism to survive and reproduce in a specific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961720" y="2666880"/>
            <a:ext cx="18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71600" y="3643200"/>
            <a:ext cx="875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herited characteristic tha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creases and organism’s cha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surviv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9548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served remains of an an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799800" y="160020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ss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7280" y="3429000"/>
            <a:ext cx="911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lands that Darwin visited on h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yage on the Beagle that start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m thinking about how organis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nge over ti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352680" y="5943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ept that each living species has descended with changes from other species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 flipV="1" rot="10800000">
            <a:off x="990360" y="2818440"/>
            <a:ext cx="701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escent with Mod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3480" y="4114800"/>
            <a:ext cx="860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ea that organisms that ar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st suited to their environmen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ll survive and reprodu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3520" y="6019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901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YSIC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981080"/>
            <a:ext cx="8381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ebbed feet, horns, antler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aws, feathers, wings, camouflag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. . . . there are a million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334160" y="3809880"/>
            <a:ext cx="626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HAVIORAL ADAPT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cturnal (coming out at night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lying south for the winter, living in herd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gon train” defense; burrowing; hiber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dzahm</cp:lastModifiedBy>
  <dcterms:modified xsi:type="dcterms:W3CDTF">2013-10-31T18:10:21Z</dcterms:modified>
  <cp:revision>35</cp:revision>
  <dc:subject/>
  <dc:title>NAME OF GAME</dc:title>
</cp:coreProperties>
</file>